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96C96-7F00-4E5E-B35F-D6CFCFFF2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1E01A-D3F8-492F-9B00-79747CB52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9F077-D8A1-4782-B6CF-D7B112D7E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EBE29-F5E2-4D81-B32F-9CE7DE71A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F4DEE-4CF1-4A2F-84C8-4B82681B4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A70B9-3120-428C-91A3-9029E7DF9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0B3CD-1094-4FC6-A983-9E5CCA4CE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DDE7D-286B-4F15-BA51-F1FED7E34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BCEDB-D33E-49B8-AEB2-E379BFD2A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73CE1-7434-4E86-B3C9-9F8563AB7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2EE17-2473-4FC9-A006-2B3635ACB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1A0C7-4366-4B54-BEAA-A7350D1A9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66ff33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3F75D-82CA-4118-9EA2-42983FF25F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hyperlink" Target="http://www.freeplaymusic.com/" TargetMode="External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eb.mit.edu/invent/iow/hoffman.html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66ff33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934320" y="5253120"/>
            <a:ext cx="220968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/27/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iod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295280" y="0"/>
            <a:ext cx="6705720" cy="5334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Impact"/>
              </a:rPr>
              <a:t>Aspri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Impact"/>
              <a:ea typeface="Impact"/>
            </a:endParaRPr>
          </a:p>
        </p:txBody>
      </p:sp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7238880" y="48769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6172200"/>
            <a:ext cx="68580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ic: Free Play Music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Old School Par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5/7/10,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www.freeplaymusic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66ff33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Hoffman"/>
          <p:cNvPicPr/>
          <p:nvPr/>
        </p:nvPicPr>
        <p:blipFill>
          <a:blip r:embed="rId1"/>
          <a:stretch/>
        </p:blipFill>
        <p:spPr>
          <a:xfrm>
            <a:off x="0" y="1752480"/>
            <a:ext cx="9144000" cy="2820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5803920"/>
            <a:ext cx="746748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melson MIT Program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spir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May 10,2010,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eb.mit.edu/invent/iow/hoffman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0"/>
            <a:ext cx="8458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irin helps everyone; children, parents, teachers, anyone that has headaches, pains, or a fev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66ff33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took three years to establish Aspirin (1897-1900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irin has multi-purposes such as relieving fever, pain and inflamm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product is the world’s most popular pain kill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irin gets its name from “A” for acetyl chloride, “Spir” for spiraea ulmaria, and “In” for the popular medicine suffix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irin is so gentle that there is no need for a prescrip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2133720" y="304920"/>
            <a:ext cx="5029200" cy="12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Invention: Aspirin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>
    <p:push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66ff33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 was born January 21, 1868 in Ludwigsburg, Germa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lix studied pharmacy and chemistry at the University of Munich were he graduated in 1893 with a doctoral deg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1894 he started working as a chemist for Bayer in Elberfeld, Germ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s father’s arthritis inspired him to create a pain killer that was not harsh on the stom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1899 after finishing the creation of Aspirin , he was promoted to the director of pharmaceutical marketing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1447920" y="152280"/>
            <a:ext cx="5715000" cy="146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66ff33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Inventor:Felix Hoffman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50000">
                    <a:srgbClr val="66ff33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7T17:41:33Z</dcterms:created>
  <dc:creator>install</dc:creator>
  <dc:description/>
  <dc:language>en-US</dc:language>
  <cp:lastModifiedBy>install</cp:lastModifiedBy>
  <dcterms:modified xsi:type="dcterms:W3CDTF">2010-05-12T17:35:14Z</dcterms:modified>
  <cp:revision>7</cp:revision>
  <dc:subject/>
  <dc:title>Slide 1</dc:title>
</cp:coreProperties>
</file>